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38549-7067-42C9-B77A-660628DBE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0F220-65F2-4E85-9638-604B06E39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19880-F1DD-4383-AF02-0ADD77B59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7101D-33A9-4D51-8A42-06ED0689C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51409-AF70-4EBE-BA1C-FA720E694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AF57E-2E0D-4910-9ED7-496C687B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1B63C-4469-44E7-AADA-66A61F14F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E32DF-2DF0-4D81-8600-53F11D97E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1846E-FAFC-4222-AD80-4C6D8F9C7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5C511-781C-417C-A5FA-2C1EADBFB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78872-D4FD-4AA8-B5EB-59702112C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C5274-EFA9-4064-AE47-7367E4A6E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1054-E052-462F-8931-A001D6978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hyperlink" Target="http://upload.wikimedia.org/wikipedia/en/7/79/Dupreeposter.jpg"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143000" y="4995720"/>
            <a:ext cx="7391520" cy="18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y Cliff Ryd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werPoint by Andrew DeMerchant</a:t>
            </a:r>
            <a:endParaRPr b="0" lang="en-US" sz="2800" spc="-1" strike="noStrike">
              <a:solidFill>
                <a:srgbClr val="000000"/>
              </a:solidFill>
              <a:latin typeface="Arial"/>
            </a:endParaRPr>
          </a:p>
        </p:txBody>
      </p:sp>
      <p:pic>
        <p:nvPicPr>
          <p:cNvPr id="42" name="" descr=""/>
          <p:cNvPicPr/>
          <p:nvPr/>
        </p:nvPicPr>
        <p:blipFill>
          <a:blip r:embed="rId2"/>
          <a:stretch/>
        </p:blipFill>
        <p:spPr>
          <a:xfrm>
            <a:off x="3200400" y="990720"/>
            <a:ext cx="2986200" cy="4724280"/>
          </a:xfrm>
          <a:prstGeom prst="rect">
            <a:avLst/>
          </a:prstGeom>
          <a:ln w="0">
            <a:noFill/>
          </a:ln>
        </p:spPr>
      </p:pic>
      <p:sp>
        <p:nvSpPr>
          <p:cNvPr id="43" name=""/>
          <p:cNvSpPr/>
          <p:nvPr/>
        </p:nvSpPr>
        <p:spPr>
          <a:xfrm>
            <a:off x="2133720" y="152280"/>
            <a:ext cx="4952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om 59: Aim and Fir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37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lonna MT"/>
              </a:rPr>
              <a:t>Writing Sty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Dressed in a pinstriped shirt with coordinated suspenders, and sporting gelled, dark brown hair that was never out of place, with gold, wire-rimmed glasses on his pale, round face, Gilliam was the epitome of middle-management bureaucracy.” Page 56</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His one-night stand looked older in the afternoon light, he mused—with crow’s feet and laugh lines that had been artfully disguised the previous evening.” Page 88</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Kate heard the beeps, and on her satellite map of the chase, the pursuing truck was now the center point of a red circle that moved with it, enveloping the fleeing car in the crimson field, along with several others that they passed.” Page 251</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he knew exactly how it operated—the discus-shaped plutonium core was surrounded by a cylinder of high explosive, that, when detonated, would create and implosion that compressed the plutonium on all sides, making it a perfect sphere, and causing it to reach supercritical mass, with a mushroom cloud to follow.”  Page 34</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ate jerked open the SUV’s tailgate and slid in the back. Grabbing the shotgun out of its holster, he racked the pump action.” Page 180</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37920"/>
            <a:ext cx="82296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lonna MT"/>
              </a:rPr>
              <a:t>Plo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imax of this novel occurs towards the end when it is clear that a nuclear weapon is in a facility called “Spaceworks”. The agents rush here in order to apprehend the terrorists and prevent them from launching a weapon. The agents dramatically enter the building with guns blazing. Two agents died in the line of fire in this raid but the weapon is seized and terrorists kille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s unrealistic but very cliché to action-packed literature. A more realistic scenario would be to contact S.W.A.T and have them properly and professionally diffuse the situation. This could result in also stopping the nuclear threat but with less fataliti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361960"/>
            <a:ext cx="82296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lonna MT"/>
              </a:rPr>
              <a:t>Conflic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many conflicts that occurred in this novel was when Nate’s ex-wife appeared at his apartment early in the morning. Nate had his head stuck out the door and told her to leave. Just as she was refusing to leave she heard Nate’s ‘one-night-stand’ in the apartment. This prompted his ex-wife to hit and scratch Nate and also verbally attack him.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onflict could have been handled differently by talking to the ex-wife outside or not talking to her at all. The result may have bee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742840"/>
            <a:ext cx="82296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lonna MT"/>
              </a:rPr>
              <a:t>Them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tle ‘Aim and Fire’ is an appropriate choice because it symbolizes a fast reaction. The title illustrates how fast paced and action-packed the novel is. In various situations throughout the novel a split second reaction to aim and fire determines who lives and who die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514240"/>
            <a:ext cx="8229600" cy="1143000"/>
          </a:xfrm>
          <a:prstGeom prst="rect">
            <a:avLst/>
          </a:prstGeom>
          <a:noFill/>
          <a:ln w="0">
            <a:noFill/>
          </a:ln>
          <a:effectLst>
            <a:outerShdw dist="36147"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lonna MT"/>
              </a:rPr>
              <a:t>Character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e Spencer</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haniel (Nate) Spencer, the protagonist, can best be described as dedicated. He is a Customs and Border Patrol agent working on the U.S.-Mexico border. Nate is middle-aged, he has pale blue eyes and with a crew cut on his salt-and-pepper hair. He stands about 6’1, and dresses in cowboy attire. Nate describes himself as being a realist, and would rather let a small-time drug dealer go to catch a bigger criminal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e has relationship problems with his superiors, his ex-wife, and select co-workers  because he has trouble taking orders. Also he doesn’t really care what people think of him. An example of this is how he doesn’t mind driving a battered, primer gray Ford Bronco.</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 primary focus is his Border Patrol job but as the book progresses he finds an emotional connection with K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cy Wentworth</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y Wentworth is an analyst for The Department of Homeland Securit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has glossy black hair that goes to mid-back, hazel eyes, and a friendly personality.</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doesn’t have a very good relationship with her boss. She describes him as being unctuous. She has a loving relationship with her fiancé, Paul. She willingly assumes the role of step-mother to Paul’s daughter and considers the child to be her own.</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otionally Tracy is wrapped up in her job, which expects a lot out of h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ate Cochran</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e Cochran is the director of the top secret agency “Room 59”. She carries a lot of responsibility in her position.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e is described as gorgeous. She has gold-green eyes, platinum-blond hair and a slim figure.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can relate to Nate’s character nicely because they are both people who can “get the job done” and both wont stop until the job is don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child she witnessed her father being killed, which led to her inability to trust most people and emotional damag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7029360"/>
        </p:xfrm>
        <a:graphic>
          <a:graphicData uri="http://schemas.openxmlformats.org/drawingml/2006/table">
            <a:tbl>
              <a:tblPr/>
              <a:tblGrid>
                <a:gridCol w="1905120"/>
                <a:gridCol w="3090600"/>
                <a:gridCol w="4148280"/>
              </a:tblGrid>
              <a:tr h="795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 Describ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c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2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e Spenc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e got married at the age of 20 and was wed for 11 years. He ended up divorcing his first wife because she made him choose between his job or 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resulted in Nate being a free man. He made a promise to live life to the fullest and he does that whenever he has time off of work. Ex. Skydiving and vacations around the world. Nate is usually the first man in on a bust which indicates how fearless he i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1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e Cochr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e witnessed a her father being shot and killed by a tall dark man when she was a child.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led to having relationship and trust problems with many people, mostly men. The novel hints that an inside feeling to please her late father is why Kate got into enforcement and why she strives to stop criminals and complete personal goals on a daily basi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914400"/>
            <a:ext cx="53341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ey Perrette as Tracy Wentworth because she has experience playing the role of analyst and she does it well. She plays Abby on the TV series NCIS. Also physically they match and both have black hair. </a:t>
            </a:r>
            <a:endParaRPr b="0" lang="en-US" sz="3200" spc="-1" strike="noStrike">
              <a:solidFill>
                <a:srgbClr val="000000"/>
              </a:solidFill>
              <a:latin typeface="Arial"/>
            </a:endParaRPr>
          </a:p>
        </p:txBody>
      </p:sp>
      <p:pic>
        <p:nvPicPr>
          <p:cNvPr id="53" name="" descr=""/>
          <p:cNvPicPr/>
          <p:nvPr/>
        </p:nvPicPr>
        <p:blipFill>
          <a:blip r:embed="rId2"/>
          <a:stretch/>
        </p:blipFill>
        <p:spPr>
          <a:xfrm>
            <a:off x="6095880" y="2590920"/>
            <a:ext cx="2876760" cy="287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520" y="1066680"/>
            <a:ext cx="44960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e Hudson as Kate Cochran because she fits the physical description perfectly. Based on Hudson’s role in ‘You, Me, &amp; Dupree’ I feel she would be perfect to portray a stern professional with an important job in a secret organization. </a:t>
            </a:r>
            <a:endParaRPr b="0" lang="en-US" sz="2800" spc="-1" strike="noStrike">
              <a:solidFill>
                <a:srgbClr val="000000"/>
              </a:solidFill>
              <a:latin typeface="Arial"/>
            </a:endParaRPr>
          </a:p>
        </p:txBody>
      </p:sp>
      <p:pic>
        <p:nvPicPr>
          <p:cNvPr id="55" name="" descr=""/>
          <p:cNvPicPr/>
          <p:nvPr/>
        </p:nvPicPr>
        <p:blipFill>
          <a:blip r:embed="rId2"/>
          <a:stretch/>
        </p:blipFill>
        <p:spPr>
          <a:xfrm>
            <a:off x="4952880" y="1295280"/>
            <a:ext cx="3619800" cy="3619800"/>
          </a:xfrm>
          <a:prstGeom prst="rect">
            <a:avLst/>
          </a:prstGeom>
          <a:ln w="0">
            <a:noFill/>
          </a:ln>
        </p:spPr>
      </p:pic>
      <p:pic>
        <p:nvPicPr>
          <p:cNvPr id="56" name="" descr="File:Dupreeposter.jpg">
            <a:hlinkClick r:id="rId3"/>
          </p:cNvPr>
          <p:cNvPicPr/>
          <p:nvPr/>
        </p:nvPicPr>
        <p:blipFill>
          <a:blip r:embed="rId4"/>
          <a:stretch/>
        </p:blipFill>
        <p:spPr>
          <a:xfrm>
            <a:off x="7010280" y="3809880"/>
            <a:ext cx="1944720" cy="28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bert Beaudoin as Nate Spencer</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reading the novel I could only picture Robert Beaudoin (Daniel Beaudoin’s father) playing the role of Nate Spencer in a movie because of the undeniable similarities between the two.</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ly they both have blue eyes and short salt-and-pepper hair. They both have an occupation in law enforcement and both are bilingual.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 quite sure that Robert has no acting experience, but could quickly learn in order to fill this rol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00:27:17Z</dcterms:created>
  <dc:creator>School District 14</dc:creator>
  <dc:description/>
  <dc:language>en-US</dc:language>
  <cp:lastModifiedBy>School District 14</cp:lastModifiedBy>
  <dcterms:modified xsi:type="dcterms:W3CDTF">2010-01-22T14:22:34Z</dcterms:modified>
  <cp:revision>8</cp:revision>
  <dc:subject/>
  <dc:title>Slide 1</dc:title>
</cp:coreProperties>
</file>